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EE6A6-D3B6-48F5-9DAB-87B3D8E4A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7EB4D-1FA8-4D67-8324-FDAA2DA0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08B62-A752-4039-BFD9-AA67A45C0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210A5-09E9-40EA-93BB-E2A197CC3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D008-6F33-4192-8338-C7EED64C0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20A52-5D75-421F-B787-375528FB8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B32E8-65ED-4585-95E1-C9467C0CA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0B34-5D1D-4AC0-887A-591897285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ACD73-7379-4C65-AD23-57DFA68D9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0CB88-9BA0-4A07-B729-A337741D5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AE9D7-FA2D-49ED-A46E-8A76047BA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ECD23-79A8-4C58-9627-EF2D89588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697BA-189A-4BC1-951D-E0F0A395796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94000" y="1371600"/>
            <a:ext cx="8030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THÖÏC THI, ÑAÙNH GIAÙ VAØ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ÑIEÀU CHÆNH CHIEÁN LÖÔÏC</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0C707E45-26B7-4F0D-AD32-429334115D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aùi ñaùnh giaù keá hoaïch chieán löôïc</a:t>
            </a:r>
            <a:endParaRPr b="1" i="1" lang="en-US" sz="3400" spc="-1" strike="noStrike">
              <a:solidFill>
                <a:srgbClr val="ffff00"/>
              </a:solidFill>
              <a:latin typeface="VNI-Helve"/>
            </a:endParaRPr>
          </a:p>
        </p:txBody>
      </p:sp>
      <p:sp>
        <p:nvSpPr>
          <p:cNvPr id="13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phuø hôïp cuûa muïc tieâu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y ñoåi cuûa moâi tröôøng vaø caùc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8C2EB7B-D064-4B96-9292-A3A0DFB8F2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ÖÕNG HAÏN CHEÁ THÖÔØNG GAËP TRONG VIEÄC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2"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0000"/>
          </a:bodyPr>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thöïc thi maát nhieàu thôøi gian hôn so vôùi döï kieán ban ñaàu</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vaán ñeà phaùt sinh thöôøng khoâng löôøng tröôùc ñöô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ñieàu haønh caùc coâng vieäc thöïc thi khoâng coù hieäu quaû</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hoaït ñoäng caïnh tranh vaø khuûng hoaûng laøm cho caùc quyeát ñònh thöïc thi bò sao nhaõng</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ngöôøi tham gia vieäc thöïc thi khoâng coù ñuû naêng lö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oâng nhaân vieân baäc thaáp chöa ñöôïc ñaøo taïo vaø huaán luyeän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yeáu toá moâi tröôøng beân ngoaøi naèm ngoaøi taàm kieåm soaùt cuûa haõng gaây ra taùc ñoäng ngöôïc laïi</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n boä quaûn trò caáp phoøng ban chöa ñaûm baûo laõnh ñaïo vaø ñieàu haønh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nhieäm vuï vaø bieän phaùp thöïc thi chuû yeáu chöa ñöôïc xaùc ñònh moät caùch chi tieát</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Heä thoáng thoâng tin söû duïng ñeå theo doõi quaù trình thöïc thi chöa töông xöùng</a:t>
            </a:r>
            <a:endParaRPr b="0" lang="en-US" sz="2200" spc="-1" strike="noStrike">
              <a:solidFill>
                <a:srgbClr val="000000"/>
              </a:solidFill>
              <a:latin typeface="VNI-Helve"/>
            </a:endParaRPr>
          </a:p>
        </p:txBody>
      </p:sp>
      <p:sp>
        <p:nvSpPr>
          <p:cNvPr id="4" name="PlaceHolder 3"/>
          <p:cNvSpPr>
            <a:spLocks noGrp="1"/>
          </p:cNvSpPr>
          <p:nvPr>
            <p:ph type="sldNum" idx="3"/>
          </p:nvPr>
        </p:nvSpPr>
        <p:spPr/>
        <p:txBody>
          <a:bodyPr/>
          <a:p>
            <a:fld id="{31C00CC4-8DF7-4EB3-8173-15C3D70C84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HEÄ THOÁNG ÑAÙNH GIAÙ</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4" name=""/>
          <p:cNvSpPr/>
          <p:nvPr/>
        </p:nvSpPr>
        <p:spPr>
          <a:xfrm>
            <a:off x="2286000" y="1371600"/>
            <a:ext cx="4343400" cy="56520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oäi dung ñaùnh giaù</a:t>
            </a:r>
            <a:endParaRPr b="0" lang="en-US" sz="2000" spc="-1" strike="noStrike">
              <a:solidFill>
                <a:srgbClr val="000000"/>
              </a:solidFill>
              <a:latin typeface="Times New Roman"/>
            </a:endParaRPr>
          </a:p>
        </p:txBody>
      </p:sp>
      <p:sp>
        <p:nvSpPr>
          <p:cNvPr id="135" name=""/>
          <p:cNvSpPr/>
          <p:nvPr/>
        </p:nvSpPr>
        <p:spPr>
          <a:xfrm>
            <a:off x="2286000" y="2287440"/>
            <a:ext cx="4343400" cy="5637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eà ra tieâu chuaån ñaùnh giaù</a:t>
            </a:r>
            <a:endParaRPr b="0" lang="en-US" sz="2000" spc="-1" strike="noStrike">
              <a:solidFill>
                <a:srgbClr val="000000"/>
              </a:solidFill>
              <a:latin typeface="Times New Roman"/>
            </a:endParaRPr>
          </a:p>
        </p:txBody>
      </p:sp>
      <p:sp>
        <p:nvSpPr>
          <p:cNvPr id="136" name=""/>
          <p:cNvSpPr/>
          <p:nvPr/>
        </p:nvSpPr>
        <p:spPr>
          <a:xfrm>
            <a:off x="2286000" y="3201840"/>
            <a:ext cx="4343400" cy="56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ònh löôïng keát quaû ñaït ñöôïc</a:t>
            </a:r>
            <a:endParaRPr b="0" lang="en-US" sz="2000" spc="-1" strike="noStrike">
              <a:solidFill>
                <a:srgbClr val="000000"/>
              </a:solidFill>
              <a:latin typeface="Times New Roman"/>
            </a:endParaRPr>
          </a:p>
        </p:txBody>
      </p:sp>
      <p:sp>
        <p:nvSpPr>
          <p:cNvPr id="137" name=""/>
          <p:cNvSpPr/>
          <p:nvPr/>
        </p:nvSpPr>
        <p:spPr>
          <a:xfrm>
            <a:off x="2286000" y="4102200"/>
            <a:ext cx="4343400" cy="8064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 saùnh keát quaû ñaït ñöôïc vôùi muïc tieâu ñeà ra</a:t>
            </a:r>
            <a:endParaRPr b="0" lang="en-US" sz="2000" spc="-1" strike="noStrike">
              <a:solidFill>
                <a:srgbClr val="000000"/>
              </a:solidFill>
              <a:latin typeface="Times New Roman"/>
            </a:endParaRPr>
          </a:p>
        </p:txBody>
      </p:sp>
      <p:sp>
        <p:nvSpPr>
          <p:cNvPr id="138" name=""/>
          <p:cNvSpPr/>
          <p:nvPr/>
        </p:nvSpPr>
        <p:spPr>
          <a:xfrm>
            <a:off x="2286000" y="5181480"/>
            <a:ext cx="4343400" cy="565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guyeân nhaân sai leäch</a:t>
            </a:r>
            <a:endParaRPr b="0" lang="en-US" sz="2000" spc="-1" strike="noStrike">
              <a:solidFill>
                <a:srgbClr val="000000"/>
              </a:solidFill>
              <a:latin typeface="Times New Roman"/>
            </a:endParaRPr>
          </a:p>
        </p:txBody>
      </p:sp>
      <p:sp>
        <p:nvSpPr>
          <p:cNvPr id="139" name=""/>
          <p:cNvSpPr/>
          <p:nvPr/>
        </p:nvSpPr>
        <p:spPr>
          <a:xfrm>
            <a:off x="2286000" y="6019920"/>
            <a:ext cx="434340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y ñoåi / Ñieàu chænh</a:t>
            </a:r>
            <a:endParaRPr b="0" lang="en-US" sz="2000" spc="-1" strike="noStrike">
              <a:solidFill>
                <a:srgbClr val="000000"/>
              </a:solidFill>
              <a:latin typeface="Times New Roman"/>
            </a:endParaRPr>
          </a:p>
        </p:txBody>
      </p:sp>
      <p:sp>
        <p:nvSpPr>
          <p:cNvPr id="140" name=""/>
          <p:cNvSpPr/>
          <p:nvPr/>
        </p:nvSpPr>
        <p:spPr>
          <a:xfrm>
            <a:off x="4419720" y="19368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28512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19720" y="574668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19720" y="37656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4876920"/>
            <a:ext cx="0" cy="3045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EA0CC14-A1A1-46E3-9910-1E1AD9F6C8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OÄI DUNG ÑAÙNH GIAÙ</a:t>
            </a:r>
            <a:endParaRPr b="1" i="1" lang="en-US" sz="3400" spc="-1" strike="noStrike">
              <a:solidFill>
                <a:srgbClr val="ffff00"/>
              </a:solidFill>
              <a:latin typeface="VNI-Helve"/>
            </a:endParaRPr>
          </a:p>
        </p:txBody>
      </p:sp>
      <p:sp>
        <p:nvSpPr>
          <p:cNvPr id="14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ñaùnh giaù chieán löôïc tröôùc vaø sau khi chieán löôïc ñöôïc thöïc hieän</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Nhaèm thuùc ñaåy caùc heä thoáng chính yeáu beân döôùi hoaøn thaønh caùc muïc tieâu chieán löôïc</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ùc nghieäp</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xaùc ñònh keát quaû, thaønh tích cuûa caù nhaân vaø nhoùm coâng taùc</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n ngöôøi - Taøi saûn</a:t>
            </a: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oá löôïng – Chaát löôïng – Thôøi gian – Chi phí</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B8617D5-1ABB-4975-A7E8-38B676686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EÀ RA TIEÂU CHUAÅN KIEÅM SOAÙ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4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cuï theå cuûa tieâu chuaå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oõ r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eåm tra ñôn giaû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uï theå</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âu chuaån thay theá</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heå ñònh höôùng tröïc tie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ù ñònh löôïng keát quaû</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giôùi haïn sai leäch cho pheù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anh giôùi phaïm vi sai leäch coù theå chaáp nhaän ñöôï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4AF3F04-2FA8-42EA-B9A2-63A7A0F407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theo chæ tieâu thò tröôø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 baù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chi phí Marketing – doanh s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thaùi ñoä khaùch h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hieäu quaû caùc hoaït ñoäng</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nguoàn nhaân löïc</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eát quaû saûn xuaát (chaát löôïng/soá löôï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nghæ vieäc, ñi muoän, soá laàn ñeå ra söï co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ñieåm nhaän thöùc cuûa nhaân vieâ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A2D6423-8D59-4007-A421-B7E9A2192F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ñaùnh giaù keát quaû saûn xuaát</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ù thaønh chuaå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pheá phaåm</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löôïng </a:t>
            </a:r>
            <a:endParaRPr b="0" lang="en-US" sz="2400" spc="-1" strike="noStrike">
              <a:solidFill>
                <a:srgbClr val="000000"/>
              </a:solidFill>
              <a:latin typeface="VNI-Helve"/>
            </a:endParaRPr>
          </a:p>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taøi chính</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anh toaù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øn caân nôï</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oaït ñoäng</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tröôû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7B3F077-F28B-4FBA-9008-3DB42F9FB3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löu yù</a:t>
            </a:r>
            <a:endParaRPr b="1" i="1" lang="en-US" sz="3400" spc="-1" strike="noStrike">
              <a:solidFill>
                <a:srgbClr val="ffff00"/>
              </a:solidFill>
              <a:latin typeface="VNI-Helve"/>
            </a:endParaRPr>
          </a:p>
        </p:txBody>
      </p:sp>
      <p:sp>
        <p:nvSpPr>
          <p:cNvPr id="15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quaû ñaït ñ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aûnh höôûng cuûa nhieàu yeáu to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löôïng keát quaû </a:t>
            </a:r>
            <a:r>
              <a:rPr b="0" lang="en-US" sz="2800" spc="-1" strike="noStrike">
                <a:solidFill>
                  <a:srgbClr val="000000"/>
                </a:solidFill>
                <a:latin typeface="Wingdings"/>
                <a:ea typeface="Wingdings"/>
              </a:rPr>
              <a:t></a:t>
            </a:r>
            <a:r>
              <a:rPr b="0" lang="en-US" sz="2800" spc="-1" strike="noStrike">
                <a:solidFill>
                  <a:srgbClr val="000000"/>
                </a:solidFill>
                <a:latin typeface="VNI-Helve"/>
              </a:rPr>
              <a:t> coù theå gaây nhieàu toán keù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uû quan khi ñaùnh giaù</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2321500-BCCE-4D6E-A72D-4F3A9BE05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SO SAÙNH KEÁT QUAÛ ÑAÏT ÑÖÔÏC VÔÙI </a:t>
            </a:r>
            <a:br>
              <a:rPr sz="3400"/>
            </a:br>
            <a:r>
              <a:rPr b="1" lang="en-US" sz="3400" spc="-1" strike="noStrike">
                <a:solidFill>
                  <a:srgbClr val="ffff00"/>
                </a:solidFill>
                <a:latin typeface="VNI-Helve"/>
              </a:rPr>
              <a:t>MUÏC TIEÂU ÑEÀ RA</a:t>
            </a:r>
            <a:endParaRPr b="1" i="1" lang="en-US" sz="3400" spc="-1" strike="noStrike">
              <a:solidFill>
                <a:srgbClr val="ffff00"/>
              </a:solidFill>
              <a:latin typeface="VNI-Helve"/>
            </a:endParaRPr>
          </a:p>
        </p:txBody>
      </p:sp>
      <p:sp>
        <p:nvSpPr>
          <p:cNvPr id="15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qua caùc thôøi kyø khaùc nhau</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ñoái thuû caïnh tranh</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bình quaân ngaønh coâng nghieäp</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muïc tieâu ñeà ra </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r>
              <a:rPr b="0" lang="en-US" sz="3600" spc="-1" strike="noStrike">
                <a:solidFill>
                  <a:srgbClr val="ff0000"/>
                </a:solidFill>
                <a:latin typeface="VNI-Helve"/>
              </a:rPr>
              <a:t> </a:t>
            </a:r>
            <a:r>
              <a:rPr b="0" lang="en-US" sz="3600" spc="-1" strike="noStrike">
                <a:solidFill>
                  <a:srgbClr val="ff0000"/>
                </a:solidFill>
                <a:latin typeface="VNI-Helve"/>
              </a:rPr>
              <a:t>sai leäch</a:t>
            </a:r>
            <a:endParaRPr b="0" lang="en-US" sz="3600" spc="-1" strike="noStrike">
              <a:solidFill>
                <a:srgbClr val="000000"/>
              </a:solidFill>
              <a:latin typeface="VNI-Helve"/>
            </a:endParaRPr>
          </a:p>
        </p:txBody>
      </p:sp>
      <p:sp>
        <p:nvSpPr>
          <p:cNvPr id="4" name="PlaceHolder 3"/>
          <p:cNvSpPr>
            <a:spLocks noGrp="1"/>
          </p:cNvSpPr>
          <p:nvPr>
            <p:ph type="sldNum" idx="3"/>
          </p:nvPr>
        </p:nvSpPr>
        <p:spPr/>
        <p:txBody>
          <a:bodyPr/>
          <a:p>
            <a:fld id="{937A884C-9173-4898-8172-463A62DF07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GUYEÂN NHAÂN SAI LEÄCH</a:t>
            </a:r>
            <a:endParaRPr b="1" i="1" lang="en-US" sz="3400" spc="-1" strike="noStrike">
              <a:solidFill>
                <a:srgbClr val="ffff00"/>
              </a:solidFill>
              <a:latin typeface="VNI-Helve"/>
            </a:endParaRPr>
          </a:p>
        </p:txBody>
      </p:sp>
      <p:sp>
        <p:nvSpPr>
          <p:cNvPr id="15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Xeùt caû sai leäch tích cöïc vaø tieâu cöïc</a:t>
            </a:r>
            <a:endParaRPr b="0" lang="en-US" sz="2400" spc="-1" strike="noStrike">
              <a:solidFill>
                <a:srgbClr val="000000"/>
              </a:solidFill>
              <a:latin typeface="VNI-Helve"/>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ät soá gôïi yù:</a:t>
            </a:r>
            <a:endParaRPr b="0" lang="en-US" sz="24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ieâu chuaån ñeà ra coù phuø hôïp vôùi caùc muïc tieâu vaø chieán löôïc ñaõ hoaïch ñònh hay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muïc tieâu vaø tieâu chuaån töông öùng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chieán löôïc ñeà ra nhaèm thöïc hieän caùc muïc tieâu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áu truùc toå chöùc vaø caùc heä thoáng cuûa coâng ty vaø nguoàn löïc coù ñaûm baûo ñeå höïc hieän chieán löôïc vaø muïc tieâu ñeà ra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bieän phaùp ñang thöïc hieän coù thích hôïp ñeå ñaït ñöôïc tieâu chuaån ñeà ra khoâ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D329211E-20CB-49B5-9EEE-08EE88EB64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n trình trieån khai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aïn cheá trong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ñaùnh giaù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hình ñaùnh giaù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903B73D-E36C-447F-8185-9367829C7F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tieâu chuaån</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áu truùc toå chöùc, caùc heä thoáng vaø nguoàn löïc hoã trôï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bieän phaùp thöïc thi</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chieán löôïc</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muïc tieâu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u yù moái quan heä phuï thuoä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FEFCC93-CB42-4CFF-AE61-5C19AFC7E7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Helve"/>
              </a:rPr>
              <a:t>Thöïc hieän nhöõng hoaït ñoäng ñieàu chænh khoâng nhaát thieát coù nghóa laø caùc chieán löôïc ñang hieän haønh seõ bò huûy boû hay coù nghóa laø phaûi hoaïch ñònh chieán löôïc môùi</a:t>
            </a:r>
            <a:r>
              <a:rPr b="0" lang="en-US" sz="2800" spc="-1" strike="noStrike">
                <a:solidFill>
                  <a:srgbClr val="ff0000"/>
                </a:solidFill>
                <a:latin typeface="VNI-Helve"/>
              </a:rPr>
              <a:t>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81252F9-E563-41CF-ACB2-5A315D6430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IEÅM TRA HEÄ THOÁNG KIEÅM SOAÙT</a:t>
            </a:r>
            <a:endParaRPr b="1" i="1" lang="en-US" sz="3400" spc="-1" strike="noStrike">
              <a:solidFill>
                <a:srgbClr val="ffff00"/>
              </a:solidFill>
              <a:latin typeface="VNI-Helve"/>
            </a:endParaRPr>
          </a:p>
        </p:txBody>
      </p:sp>
      <p:sp>
        <p:nvSpPr>
          <p:cNvPr id="16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phoù vôùi heä thoáng kieåm soaùt</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döõ lieäu khoâng coù giaù trò</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ieåm soaùt thaùi qua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boû ra vaø lôïi ích ñaït ñöôïc</a:t>
            </a:r>
            <a:endParaRPr b="0" lang="en-US" sz="2800" spc="-1" strike="noStrike">
              <a:solidFill>
                <a:srgbClr val="000000"/>
              </a:solidFill>
              <a:latin typeface="VNI-Helv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Helve"/>
              </a:rPr>
              <a:t>Kieåm soaùt, ñaùnh giaù vaø ñieàu chænh ñeå khaúng ñònh tính khaû thi vaø thaønh coâng cuûa chieán löôïc ñöôïc hoaïch ñò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687B46D-9CCF-401B-BD1A-B47292B02B91}"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IEÁN TRÌNH TRIEÅN KHAI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
          <p:cNvSpPr/>
          <p:nvPr/>
        </p:nvSpPr>
        <p:spPr>
          <a:xfrm>
            <a:off x="838080" y="2554200"/>
            <a:ext cx="1284480" cy="2246400"/>
          </a:xfrm>
          <a:prstGeom prst="rect">
            <a:avLst/>
          </a:prstGeom>
          <a:solidFill>
            <a:srgbClr val="00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Duyeät xeùt muïc tieâu, ñieàu kieän moâi tröôø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amp; chieán löô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õ choïn</a:t>
            </a:r>
            <a:endParaRPr b="0" lang="en-US" sz="1600" spc="-1" strike="noStrike">
              <a:solidFill>
                <a:srgbClr val="000000"/>
              </a:solidFill>
              <a:latin typeface="Times New Roman"/>
            </a:endParaRPr>
          </a:p>
        </p:txBody>
      </p:sp>
      <p:sp>
        <p:nvSpPr>
          <p:cNvPr id="92" name=""/>
          <p:cNvSpPr/>
          <p:nvPr/>
        </p:nvSpPr>
        <p:spPr>
          <a:xfrm>
            <a:off x="2670120" y="2554200"/>
            <a:ext cx="1000080" cy="2246400"/>
          </a:xfrm>
          <a:prstGeom prst="rect">
            <a:avLst/>
          </a:prstGeom>
          <a:solidFill>
            <a:srgbClr val="00ffcc"/>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ñieàu chænh  &amp; ñaûm baûo nguoàn löïc</a:t>
            </a:r>
            <a:endParaRPr b="0" lang="en-US" sz="1600" spc="-1" strike="noStrike">
              <a:solidFill>
                <a:srgbClr val="000000"/>
              </a:solidFill>
              <a:latin typeface="Times New Roman"/>
            </a:endParaRPr>
          </a:p>
        </p:txBody>
      </p:sp>
      <p:sp>
        <p:nvSpPr>
          <p:cNvPr id="93" name=""/>
          <p:cNvSpPr/>
          <p:nvPr/>
        </p:nvSpPr>
        <p:spPr>
          <a:xfrm>
            <a:off x="4241880" y="2554200"/>
            <a:ext cx="998280" cy="2246400"/>
          </a:xfrm>
          <a:prstGeom prst="rect">
            <a:avLst/>
          </a:prstGeom>
          <a:solidFill>
            <a:srgbClr val="99ff33"/>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aây döïng caáu truùc toå chöùc</a:t>
            </a:r>
            <a:endParaRPr b="0" lang="en-US" sz="1600" spc="-1" strike="noStrike">
              <a:solidFill>
                <a:srgbClr val="000000"/>
              </a:solidFill>
              <a:latin typeface="Times New Roman"/>
            </a:endParaRPr>
          </a:p>
        </p:txBody>
      </p:sp>
      <p:sp>
        <p:nvSpPr>
          <p:cNvPr id="94" name=""/>
          <p:cNvSpPr/>
          <p:nvPr/>
        </p:nvSpPr>
        <p:spPr>
          <a:xfrm>
            <a:off x="5811840" y="2554200"/>
            <a:ext cx="1000080" cy="22464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rieån khai vaø thay ñoåi chieán löôïc</a:t>
            </a:r>
            <a:endParaRPr b="0" lang="en-US" sz="1600" spc="-1" strike="noStrike">
              <a:solidFill>
                <a:srgbClr val="000000"/>
              </a:solidFill>
              <a:latin typeface="Times New Roman"/>
            </a:endParaRPr>
          </a:p>
        </p:txBody>
      </p:sp>
      <p:sp>
        <p:nvSpPr>
          <p:cNvPr id="95" name=""/>
          <p:cNvSpPr/>
          <p:nvPr/>
        </p:nvSpPr>
        <p:spPr>
          <a:xfrm>
            <a:off x="7381800" y="2554200"/>
            <a:ext cx="1000080" cy="2246400"/>
          </a:xfrm>
          <a:prstGeom prst="rect">
            <a:avLst/>
          </a:prstGeom>
          <a:solidFill>
            <a:srgbClr val="ff9999"/>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aù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keá hoaïch chieán löôïc</a:t>
            </a:r>
            <a:endParaRPr b="0" lang="en-US" sz="1600" spc="-1" strike="noStrike">
              <a:solidFill>
                <a:srgbClr val="000000"/>
              </a:solidFill>
              <a:latin typeface="Times New Roman"/>
            </a:endParaRPr>
          </a:p>
        </p:txBody>
      </p:sp>
      <p:sp>
        <p:nvSpPr>
          <p:cNvPr id="96" name=""/>
          <p:cNvSpPr/>
          <p:nvPr/>
        </p:nvSpPr>
        <p:spPr>
          <a:xfrm>
            <a:off x="367020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016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11920" y="36766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04800" y="2025720"/>
            <a:ext cx="2858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1)</a:t>
            </a:r>
            <a:endParaRPr b="0" lang="en-US" sz="1600" spc="-1" strike="noStrike">
              <a:solidFill>
                <a:srgbClr val="000000"/>
              </a:solidFill>
              <a:latin typeface="Times New Roman"/>
            </a:endParaRPr>
          </a:p>
        </p:txBody>
      </p:sp>
      <p:sp>
        <p:nvSpPr>
          <p:cNvPr id="100" name=""/>
          <p:cNvSpPr/>
          <p:nvPr/>
        </p:nvSpPr>
        <p:spPr>
          <a:xfrm>
            <a:off x="302436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2)</a:t>
            </a:r>
            <a:endParaRPr b="0" lang="en-US" sz="1600" spc="-1" strike="noStrike">
              <a:solidFill>
                <a:srgbClr val="000000"/>
              </a:solidFill>
              <a:latin typeface="Times New Roman"/>
            </a:endParaRPr>
          </a:p>
        </p:txBody>
      </p:sp>
      <p:sp>
        <p:nvSpPr>
          <p:cNvPr id="101" name=""/>
          <p:cNvSpPr/>
          <p:nvPr/>
        </p:nvSpPr>
        <p:spPr>
          <a:xfrm>
            <a:off x="4681440" y="2025720"/>
            <a:ext cx="28584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3)</a:t>
            </a:r>
            <a:endParaRPr b="0" lang="en-US" sz="1600" spc="-1" strike="noStrike">
              <a:solidFill>
                <a:srgbClr val="000000"/>
              </a:solidFill>
              <a:latin typeface="Times New Roman"/>
            </a:endParaRPr>
          </a:p>
        </p:txBody>
      </p:sp>
      <p:sp>
        <p:nvSpPr>
          <p:cNvPr id="102" name=""/>
          <p:cNvSpPr/>
          <p:nvPr/>
        </p:nvSpPr>
        <p:spPr>
          <a:xfrm>
            <a:off x="620568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4)</a:t>
            </a:r>
            <a:endParaRPr b="0" lang="en-US" sz="1600" spc="-1" strike="noStrike">
              <a:solidFill>
                <a:srgbClr val="000000"/>
              </a:solidFill>
              <a:latin typeface="Times New Roman"/>
            </a:endParaRPr>
          </a:p>
        </p:txBody>
      </p:sp>
      <p:sp>
        <p:nvSpPr>
          <p:cNvPr id="103" name=""/>
          <p:cNvSpPr/>
          <p:nvPr/>
        </p:nvSpPr>
        <p:spPr>
          <a:xfrm>
            <a:off x="7680240" y="2025720"/>
            <a:ext cx="28440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5)</a:t>
            </a:r>
            <a:endParaRPr b="0" lang="en-US" sz="1600" spc="-1" strike="noStrike">
              <a:solidFill>
                <a:srgbClr val="000000"/>
              </a:solidFill>
              <a:latin typeface="Times New Roman"/>
            </a:endParaRPr>
          </a:p>
        </p:txBody>
      </p:sp>
      <p:sp>
        <p:nvSpPr>
          <p:cNvPr id="104" name=""/>
          <p:cNvSpPr/>
          <p:nvPr/>
        </p:nvSpPr>
        <p:spPr>
          <a:xfrm>
            <a:off x="2133720" y="36576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CB1775-8122-4337-B403-D6F40C2581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Duyeät xeùt laïi caùc muïc tieâu, ñieàu kieän moâi tröôøng vaø chieán löôïc ñaõ choïn</a:t>
            </a:r>
            <a:endParaRPr b="1" i="1" lang="en-US" sz="3400" spc="-1" strike="noStrike">
              <a:solidFill>
                <a:srgbClr val="ffff00"/>
              </a:solidFill>
              <a:latin typeface="VNI-Helve"/>
            </a:endParaRPr>
          </a:p>
        </p:txBody>
      </p:sp>
      <p:sp>
        <p:nvSpPr>
          <p:cNvPr id="106"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baûn hoaù caùc phaân tích, muïc tieâu vaø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öôøi thöïc thi naém baét chính xaùc noäi dung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ieãn bieán cuûa moâi tröô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ieàu chæ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F3AAE48-1E2E-4F04-8A51-6171B6A173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ñieàu chænh vaø ñaûm baûo </a:t>
            </a:r>
            <a:br>
              <a:rPr sz="3400"/>
            </a:br>
            <a:r>
              <a:rPr b="1" lang="en-US" sz="3400" spc="-1" strike="noStrike">
                <a:solidFill>
                  <a:srgbClr val="ffff00"/>
                </a:solidFill>
                <a:latin typeface="VNI-Helve"/>
              </a:rPr>
              <a:t>nguoàn lö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aùc chöông trình, ngaân saùch vaø thuû tuïc thích hôï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Coâng ty coù ñuû nguoàn löïc ñeå thöïc thi caùc chieán löôïc ñöôïc hoaïch ñònh moät caùch coù hieäu quaû hay khoâ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chænh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Soá löôïng hay chaát löôïng cuûa nguoà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Phaân boå nguoàn löïc nhö theá naøo ñeå ñaït hieäu quaû ca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39E6061-FD7B-4C0D-B6A1-B997B99C36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762120"/>
          </a:xfrm>
          <a:prstGeom prst="rect">
            <a:avLst/>
          </a:prstGeom>
          <a:noFill/>
          <a:ln w="0">
            <a:noFill/>
          </a:ln>
        </p:spPr>
        <p:txBody>
          <a:bodyPr lIns="90000" rIns="90000" tIns="46800" bIns="46800" anchor="t">
            <a:normAutofit fontScale="88000"/>
          </a:bodyPr>
          <a:p>
            <a:pPr marL="301680" indent="-3016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ái quan heä giöõa chieán löôïc vaø caáu truùc</a:t>
            </a:r>
            <a:endParaRPr b="0" lang="en-US" sz="2800" spc="-1" strike="noStrike">
              <a:solidFill>
                <a:srgbClr val="000000"/>
              </a:solidFill>
              <a:latin typeface="VNI-Helve"/>
            </a:endParaRPr>
          </a:p>
        </p:txBody>
      </p:sp>
      <p:sp>
        <p:nvSpPr>
          <p:cNvPr id="111" name=""/>
          <p:cNvSpPr/>
          <p:nvPr/>
        </p:nvSpPr>
        <p:spPr>
          <a:xfrm>
            <a:off x="1530360" y="2362320"/>
            <a:ext cx="1187280" cy="1295280"/>
          </a:xfrm>
          <a:prstGeom prst="rect">
            <a:avLst/>
          </a:prstGeom>
          <a:solidFill>
            <a:srgbClr val="99cc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hieán löôïc môùi ñöôïc thieát laäp</a:t>
            </a:r>
            <a:endParaRPr b="0" lang="en-US" sz="1600" spc="-1" strike="noStrike">
              <a:solidFill>
                <a:srgbClr val="000000"/>
              </a:solidFill>
              <a:latin typeface="Times New Roman"/>
            </a:endParaRPr>
          </a:p>
        </p:txBody>
      </p:sp>
      <p:sp>
        <p:nvSpPr>
          <p:cNvPr id="112" name=""/>
          <p:cNvSpPr/>
          <p:nvPr/>
        </p:nvSpPr>
        <p:spPr>
          <a:xfrm>
            <a:off x="3905280" y="2362320"/>
            <a:ext cx="1187280" cy="1295280"/>
          </a:xfrm>
          <a:prstGeom prst="rect">
            <a:avLst/>
          </a:prstGeom>
          <a:solidFill>
            <a:srgbClr val="ccffcc"/>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aùc vaán ñeà môùi xuaát hieän</a:t>
            </a:r>
            <a:endParaRPr b="0" lang="en-US" sz="1600" spc="-1" strike="noStrike">
              <a:solidFill>
                <a:srgbClr val="000000"/>
              </a:solidFill>
              <a:latin typeface="Times New Roman"/>
            </a:endParaRPr>
          </a:p>
        </p:txBody>
      </p:sp>
      <p:sp>
        <p:nvSpPr>
          <p:cNvPr id="113" name=""/>
          <p:cNvSpPr/>
          <p:nvPr/>
        </p:nvSpPr>
        <p:spPr>
          <a:xfrm>
            <a:off x="6280200" y="2400480"/>
            <a:ext cx="1187280" cy="1257120"/>
          </a:xfrm>
          <a:prstGeom prst="rect">
            <a:avLst/>
          </a:prstGeom>
          <a:solidFill>
            <a:srgbClr val="ffcc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suït giaûm</a:t>
            </a:r>
            <a:endParaRPr b="0" lang="en-US" sz="1600" spc="-1" strike="noStrike">
              <a:solidFill>
                <a:srgbClr val="000000"/>
              </a:solidFill>
              <a:latin typeface="Times New Roman"/>
            </a:endParaRPr>
          </a:p>
        </p:txBody>
      </p:sp>
      <p:sp>
        <p:nvSpPr>
          <p:cNvPr id="114" name=""/>
          <p:cNvSpPr/>
          <p:nvPr/>
        </p:nvSpPr>
        <p:spPr>
          <a:xfrm>
            <a:off x="2598840" y="4641840"/>
            <a:ext cx="1425600" cy="1301760"/>
          </a:xfrm>
          <a:prstGeom prst="rect">
            <a:avLst/>
          </a:prstGeom>
          <a:solidFill>
            <a:srgbClr val="cc99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ñöôïc caûi thieän</a:t>
            </a:r>
            <a:endParaRPr b="0" lang="en-US" sz="1600" spc="-1" strike="noStrike">
              <a:solidFill>
                <a:srgbClr val="000000"/>
              </a:solidFill>
              <a:latin typeface="Times New Roman"/>
            </a:endParaRPr>
          </a:p>
        </p:txBody>
      </p:sp>
      <p:sp>
        <p:nvSpPr>
          <p:cNvPr id="115" name=""/>
          <p:cNvSpPr/>
          <p:nvPr/>
        </p:nvSpPr>
        <p:spPr>
          <a:xfrm>
            <a:off x="5092560" y="4641840"/>
            <a:ext cx="1425600" cy="1301760"/>
          </a:xfrm>
          <a:prstGeom prst="rect">
            <a:avLst/>
          </a:prstGeom>
          <a:solidFill>
            <a:srgbClr val="ffff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Moät caáu truùc toå chöùc môùi ñöôïc thieát laäp</a:t>
            </a:r>
            <a:endParaRPr b="0" lang="en-US" sz="1600" spc="-1" strike="noStrike">
              <a:solidFill>
                <a:srgbClr val="000000"/>
              </a:solidFill>
              <a:latin typeface="Times New Roman"/>
            </a:endParaRPr>
          </a:p>
        </p:txBody>
      </p:sp>
      <p:sp>
        <p:nvSpPr>
          <p:cNvPr id="116" name=""/>
          <p:cNvSpPr/>
          <p:nvPr/>
        </p:nvSpPr>
        <p:spPr>
          <a:xfrm>
            <a:off x="6931080" y="3657600"/>
            <a:ext cx="0" cy="16002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550200" y="5257800"/>
            <a:ext cx="3808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035240" y="5257800"/>
            <a:ext cx="10666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130480" y="5257800"/>
            <a:ext cx="45720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130480" y="3657240"/>
            <a:ext cx="3240" cy="16002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971800"/>
            <a:ext cx="113976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02280" y="29718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BDC739-D900-4623-B0ED-236C1FCD9A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2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giai ñoaïn phaùt trieån caáu truù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1: </a:t>
            </a:r>
            <a:r>
              <a:rPr b="0" lang="en-US" sz="2400" spc="-1" strike="noStrike">
                <a:solidFill>
                  <a:srgbClr val="000000"/>
                </a:solidFill>
                <a:latin typeface="VNI-Helve"/>
              </a:rPr>
              <a:t>	</a:t>
            </a:r>
            <a:r>
              <a:rPr b="0" lang="en-US" sz="2400" spc="-1" strike="noStrike">
                <a:solidFill>
                  <a:srgbClr val="000000"/>
                </a:solidFill>
                <a:latin typeface="VNI-Helve"/>
              </a:rPr>
              <a:t>Caáu truùc giaûn ñôn (Simple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2: </a:t>
            </a:r>
            <a:r>
              <a:rPr b="0" lang="en-US" sz="2400" spc="-1" strike="noStrike">
                <a:solidFill>
                  <a:srgbClr val="000000"/>
                </a:solidFill>
                <a:latin typeface="VNI-Helve"/>
              </a:rPr>
              <a:t>	</a:t>
            </a:r>
            <a:r>
              <a:rPr b="0" lang="en-US" sz="2400" spc="-1" strike="noStrike">
                <a:solidFill>
                  <a:srgbClr val="000000"/>
                </a:solidFill>
                <a:latin typeface="VNI-Helve"/>
              </a:rPr>
              <a:t>Caáu truùc chöùc naêng (Funct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3: </a:t>
            </a:r>
            <a:r>
              <a:rPr b="0" lang="en-US" sz="2400" spc="-1" strike="noStrike">
                <a:solidFill>
                  <a:srgbClr val="000000"/>
                </a:solidFill>
                <a:latin typeface="VNI-Helve"/>
              </a:rPr>
              <a:t>	</a:t>
            </a:r>
            <a:r>
              <a:rPr b="0" lang="en-US" sz="2400" spc="-1" strike="noStrike">
                <a:solidFill>
                  <a:srgbClr val="000000"/>
                </a:solidFill>
                <a:latin typeface="VNI-Helve"/>
              </a:rPr>
              <a:t>Caáu truùc nhieàu boä phaän (Divis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A7CBD36-7D7E-43F8-8776-B173BEFCBB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guyeân taéc chuyeån dòch caáu truùc cuûa Chandler</a:t>
            </a:r>
            <a:endParaRPr b="1" i="1" lang="en-US" sz="3400" spc="-1" strike="noStrike">
              <a:solidFill>
                <a:srgbClr val="ffff00"/>
              </a:solidFill>
              <a:latin typeface="VNI-Helve"/>
            </a:endParaRPr>
          </a:p>
        </p:txBody>
      </p:sp>
      <p:sp>
        <p:nvSpPr>
          <p:cNvPr id="12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1:</a:t>
            </a:r>
            <a:r>
              <a:rPr b="0" lang="en-US" sz="2800" spc="-1" strike="noStrike">
                <a:solidFill>
                  <a:srgbClr val="000000"/>
                </a:solidFill>
                <a:latin typeface="VNI-Helve"/>
              </a:rPr>
              <a:t> Caáu truùc toå chöùc ñi theo chieán löôïc phaùt trieån cuûa coâng ty</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2:</a:t>
            </a:r>
            <a:r>
              <a:rPr b="0" lang="en-US" sz="2800" spc="-1" strike="noStrike">
                <a:solidFill>
                  <a:srgbClr val="000000"/>
                </a:solidFill>
                <a:latin typeface="VNI-Helve"/>
              </a:rPr>
              <a:t> Caùc coâng ty thöôøng phaùt trieån caáu truùc theo moät tieán trình goàm 3 giai ñoaïn: caáu truùc giaûn ñôn, caáu truùc chöùc naêng, vaø caáu truùc boä phaän / ñòa lyù.</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3:</a:t>
            </a:r>
            <a:r>
              <a:rPr b="0" lang="en-US" sz="2800" spc="-1" strike="noStrike">
                <a:solidFill>
                  <a:srgbClr val="000000"/>
                </a:solidFill>
                <a:latin typeface="VNI-Helve"/>
              </a:rPr>
              <a:t> Söï thay ñoåi caáu truùc toå chöùc töø giai ñoaïn naøy sang giai ñoaïn khaùc xaûy ra sau khi bò aùp löïc thay ñoåi, bôûi vì nhaø hoaïch ñònh chieán löôïc vaø nhaø xaây döïng caáu truùc toå chöùc laø hai loaïi ngöôøi khaùc bieät nha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514FFA6-F224-4772-B16D-04CD3B8276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vaø thay ñoå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phaûn öùng coù theå xaûy ra</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ieàm aå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höïc te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eát laäp laïi nguyeân traï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621A12E-7A25-45CF-831A-59E3569470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3:55Z</dcterms:modified>
  <cp:revision>27</cp:revision>
  <dc:subject/>
  <dc:title>PowerPoint Presentation</dc:title>
</cp:coreProperties>
</file>